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jpeg" ContentType="image/jpeg"/>
  <Override PartName="/ppt/media/image29.jpeg" ContentType="image/jpeg"/>
  <Override PartName="/ppt/media/image27.jpeg" ContentType="image/jpeg"/>
  <Override PartName="/ppt/media/image10.png" ContentType="image/png"/>
  <Override PartName="/ppt/media/image13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622B-E3C3-406A-85D1-A2C5E1CC7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822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8960"/>
            <a:ext cx="822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042B-904C-489D-A546-3F8181870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2450-878E-4815-80C2-48B9D66A0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0821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0821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89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989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989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458C-F934-463E-8ADE-523074EEA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ACEB0-3762-4385-81F7-501312C869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08216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25751-3113-4C40-9659-A1B9D342C6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2D11-AB20-47C0-87B6-F3E65204A3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6D05-3B0A-4445-B12E-92796C51A1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2A831-2639-402E-8F68-EF9303D179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523CE-A48E-4E37-A020-9660CA53D4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2CE32-E215-46F9-9180-90F7D9BB6B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08216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229D-F3B5-44F5-B006-750CB9C4C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1377A-FE8A-4830-9EAF-D4D25C4CB6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98960"/>
            <a:ext cx="822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3E7A6-A8A0-4A29-90A2-55BF2A7B24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822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098960"/>
            <a:ext cx="822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9406B-3E04-4E2F-BCBD-245FB9A834D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59CC0-D425-485F-AB0F-1306F9FBAB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0821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0821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0989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40989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4098960"/>
            <a:ext cx="264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091D5-88F8-4793-98EB-E9D3449180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D972-00C1-44FC-BC81-CF162D0A8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BD6E-D572-45C4-811F-002C3A960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1126-03FE-45B0-B577-E24E30B0D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E11A9-2D37-414B-911A-1663792A9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EE13-6EF4-4EE2-91EC-A426D063D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989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536B4-CE77-4A39-A572-1A9041167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82160"/>
            <a:ext cx="40158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8960"/>
            <a:ext cx="8229600" cy="275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B676-E12D-469D-8C0A-F6BC8A59B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82160"/>
            <a:ext cx="8229600" cy="577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66672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6668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3" marL="152388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4" marL="198108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22920" y="6473520"/>
            <a:ext cx="274680" cy="2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6473-5DA9-4D47-A860-B61111B086A8}" type="slidenum">
              <a:rPr b="0" lang="en-US" sz="10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8422920" y="6473520"/>
            <a:ext cx="274680" cy="2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Gran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07F6-74D1-45F0-AEFD-F65B79B44E85}" type="slidenum">
              <a:rPr b="0" lang="en-US" sz="10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eb.mit.edu/pugwash/www/WMD/wmd-his.html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hyperlink" Target="http://www.hiro-tsuitokinenkan.go.jp/english/notice/photographs.html" TargetMode="External"/><Relationship Id="rId5" Type="http://schemas.openxmlformats.org/officeDocument/2006/relationships/hyperlink" Target="http://www.virginiawestern.edu/faculty/vwhansd/his112/11_ColdWar1.html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hyperlink" Target="http://www.trumanlibrary.org/whistlestop/study_collections/bomb/large/index.php?action=photos" TargetMode="External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hyperlink" Target="http://www.trumanlibrary.org/whistlestop/study_collections/bomb/large/index.php?action=photos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www.google.com/imgres?imgurl=http://www.corbisimages.com/images/67/4A202470-1BF3-43FE-9D65-EA5AA3FAA2B1/PL9391.jpg&amp;imgrefurl=http://www.corbisimages.com/Enlargement/PL9391.html&amp;usg=__5QW283FME2f2txkVaHAJLsgOjUM=&amp;h=480&amp;w=361&amp;sz=86&amp;hl=en&amp;start=25&amp;itbs=1&amp;tbnid=HtqX4FL5oIZ6VM:&amp;tbnh=129&amp;tbnw=97&amp;prev=/images%25253Fq%25253Dus%25252Bdeclares%25252Bwar%25252Bon%25252BJapan%252526start%25253D18%252526hl%25253Den%252526sa%25253DN%252526gbv%25253D2%252526ndsp%25253D18%252526tbs%25253Disch:1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www.google.com/imgres?imgurl=http://docs.fdrlibrary.marist.edu/images/decwars.jpg&amp;imgrefurl=http://docs.fdrlibrary.marist.edu/tmirhdee.html&amp;usg=__XLWNKUVfAnbRZcBrTMBVJRfk6Yk=&amp;h=330&amp;w=266&amp;sz=36&amp;hl=en&amp;start=26&amp;itbs=1&amp;tbnid=8YlIKaj0Y95ziM:&amp;tbnh=119&amp;tbnw=96&amp;prev=/images%25253Fq%25253Dus%25252Bdeclares%25252Bwar%25252Bon%25252BJapan%252526start%25253D18%252526hl%25253Den%252526sa%25253DN%252526gbv%25253D2%252526ndsp%25253D18%252526tbs%25253Disch:1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hyperlink" Target="http://www.google.com/imgres?imgurl=http://www.greatdreams.com/war/pearl-harbor-attack.jpg&amp;imgrefurl=http://www.greatdreams.com/war/pearl-harbor-three.htm&amp;usg=__6sVrtuLcce_9HWcnGKljbLeSfjU=&amp;h=341&amp;w=400&amp;sz=30&amp;hl=en&amp;start=4&amp;itbs=1&amp;tbnid=wUPyq3YdhJzAaM:&amp;tbnh=106&amp;tbnw=124&amp;prev=/images%25253Fq%25253Dpearl%25252Bharbor%252526hl%25253Den%252526gbv%25253D2%252526tbs%25253Disch:1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www.reich-chemistry.wikispaces.com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ftp.irtc.org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hyperlink" Target="http://www.trumanlibrary.org/whistlestop/study_collections/bomb/large/index.php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hyperlink" Target="http://www.gwu.edu/~nsarchiv/NSAEBB/NSAEBB162/nagasaki-2.jpg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hyperlink" Target="http://archives.gov/historical-docs/todays-doc/index.html?dod-date=511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952560" y="954000"/>
            <a:ext cx="7238880" cy="5904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67680" cy="99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Grande"/>
              </a:rPr>
              <a:t>The Atomic Bomb &amp; Nuclear Technology</a:t>
            </a:r>
            <a:endParaRPr b="0" lang="en-US" sz="3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800280" y="2984400"/>
            <a:ext cx="746748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Grande"/>
              </a:rPr>
              <a:t>How did the development of the atomic bomb and nuclear technology change the world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52920" y="6515280"/>
            <a:ext cx="359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eb.mit.edu/pugwash/www/WMD/wmd-his.htm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ina Bu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The Decision to Drop the Bomb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0840" y="1476360"/>
            <a:ext cx="4241880" cy="450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were the arguments against dropping the bomb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igh numbers of civilian casualti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otential for unfavorable public opinion in the US and other countrie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otential to start a nuclear arms rac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ina Bu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5931000" y="1168560"/>
            <a:ext cx="2997000" cy="4271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4788000" y="2984400"/>
            <a:ext cx="2450880" cy="33148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29880" y="6032520"/>
            <a:ext cx="5005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tp://www.hiro-tsuitokinenkan.go.jp/english/notice/photographs.htm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virginiawestern.edu/faculty/vwhansd/his112/11_ColdWar1.ht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m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76320" y="4191120"/>
            <a:ext cx="3500280" cy="2286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0" tIns="38160" bIns="381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Hiroshima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86200" y="14479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38160" rIns="0" tIns="38160" bIns="38160" anchor="t">
            <a:normAutofit/>
          </a:bodyPr>
          <a:p>
            <a:pPr marL="266760" indent="-227160">
              <a:lnSpc>
                <a:spcPct val="8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President Truman warned Japan that unless they surrendered, they could expect “a rain of ruin from the air”  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2667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On August 6, 1945 at 8:16 A.M., the B-29 bomber Enola Gay dropped an atomic bomb called “Little Boy” on Hiroshima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266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2667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he bomb released the energy equivalent of 20,000 tons of TNT, killing 70-80 thousand people and destroying 62,000 buildings instantly 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3"/>
          <a:stretch/>
        </p:blipFill>
        <p:spPr>
          <a:xfrm>
            <a:off x="76320" y="990720"/>
            <a:ext cx="2798640" cy="3070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7835760" y="6527880"/>
            <a:ext cx="1244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evor Brow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8920" y="6350040"/>
            <a:ext cx="4788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http://www.trumanlibrary.org/whistlestop/study_collections/bomb/large/index.php?action=photo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6172200" y="3962520"/>
            <a:ext cx="2819520" cy="2052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Nagasaki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181480" cy="5562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On August 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Lucida Grande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, 1945 at 10:47 AM, the B-29 bomber Bockscar dropped an atomic bomb called “Fat Man” on Nagasaki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he bomb released the energy equivalent of 21,000 kilotons of TNT,  killing 70 thousand people instantly, eventually bringing the death toll to 210 thousand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On September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Lucida Grande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, 1945 Japan officially surrendered aboard the United States Battleship Missouri in Tokyo Bay ending World War II</a:t>
            </a:r>
            <a:endParaRPr b="0" lang="en-US" sz="22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3"/>
          <a:stretch/>
        </p:blipFill>
        <p:spPr>
          <a:xfrm>
            <a:off x="6323040" y="990720"/>
            <a:ext cx="2362320" cy="28191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7835760" y="6527880"/>
            <a:ext cx="1244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evor Brow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88920" y="6350040"/>
            <a:ext cx="4788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http://www.trumanlibrary.org/whistlestop/study_collections/bomb/large/index.php?action=photo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Changes to the World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86200" y="1447920"/>
            <a:ext cx="5029200" cy="5410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8000"/>
          </a:bodyPr>
          <a:p>
            <a:pPr marL="298800" indent="-29880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as it necessary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stimated loss of lif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Help or hurt the future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98800" indent="-298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lternatives to the bomb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eac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at did you discover in your group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98800" indent="-298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did we gain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lives of 500,000 American soldier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nding the war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298800" indent="-298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did we lose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lives of 210,000 Japanes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oss of input and productivity from all deceased individuals on both side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7835760" y="6527880"/>
            <a:ext cx="1244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evor Brow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3"/>
          <a:stretch/>
        </p:blipFill>
        <p:spPr>
          <a:xfrm>
            <a:off x="1295280" y="3276720"/>
            <a:ext cx="249552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3102120" y="4267080"/>
            <a:ext cx="1698480" cy="198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3962520"/>
            <a:ext cx="1317600" cy="1752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US and Japanese Conflict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86" name="Picture 5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4419720"/>
            <a:ext cx="1160640" cy="1438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1930’s – 1940’s Japan is expanding its empir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US imposes oil embargo on Japan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8/1/194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Japan bombs Pearl Harbor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12/7/194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US Declares war on Japan 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12/8/1941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7"/>
          <a:stretch/>
        </p:blipFill>
        <p:spPr>
          <a:xfrm>
            <a:off x="2933640" y="2666880"/>
            <a:ext cx="800280" cy="99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8"/>
          <a:stretch/>
        </p:blipFill>
        <p:spPr>
          <a:xfrm>
            <a:off x="5315040" y="1905120"/>
            <a:ext cx="628560" cy="838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3520" y="4038480"/>
            <a:ext cx="2286000" cy="19544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0"/>
          <p:cNvSpPr/>
          <p:nvPr/>
        </p:nvSpPr>
        <p:spPr>
          <a:xfrm>
            <a:off x="7835760" y="6527880"/>
            <a:ext cx="12448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evor Brown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28600" y="1143000"/>
            <a:ext cx="8699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ackground on the US and Japanese conflict leading to the use of the atomic bomb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Grande"/>
              </a:rPr>
              <a:t>How did the bomb lead to new lines of scientific inquiry and affect how people live and work?</a:t>
            </a:r>
            <a:endParaRPr b="0" lang="en-US" sz="26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2209680" cy="2025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3429000" y="1600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4"/>
          <a:stretch/>
        </p:blipFill>
        <p:spPr>
          <a:xfrm>
            <a:off x="6781680" y="1676520"/>
            <a:ext cx="2133720" cy="2784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5"/>
          <a:stretch/>
        </p:blipFill>
        <p:spPr>
          <a:xfrm>
            <a:off x="1752480" y="4419720"/>
            <a:ext cx="229248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6"/>
          <a:stretch/>
        </p:blipFill>
        <p:spPr>
          <a:xfrm>
            <a:off x="4648320" y="4419720"/>
            <a:ext cx="2690640" cy="2282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uke Suh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Background Knowledge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uke Suh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28600" y="1120680"/>
            <a:ext cx="434340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 is radiation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Alph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Be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Gamm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What’s so special about uranium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5029200" y="101916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5067360" y="3632040"/>
            <a:ext cx="3276720" cy="28512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0" y="6396120"/>
            <a:ext cx="45846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Lucida Grande"/>
                <a:hlinkClick r:id="rId4"/>
              </a:rPr>
              <a:t>www.reich-chemistry.wikispaces.com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10082"/>
                </a:solidFill>
                <a:uFillTx/>
                <a:latin typeface="Lucida Grande"/>
              </a:rPr>
              <a:t>www.mei.gov.on.ca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710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The Decision to Drop the Bomb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00240" y="1272960"/>
            <a:ext cx="4343400" cy="468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ow does a fission bomb work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Radioactive uranium atoms get to close togethe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04920" indent="-304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ow does a fusion bomb work?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ydrogen isotopes react to form heliu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279360" y="1143000"/>
            <a:ext cx="3759120" cy="2819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291960" y="4051440"/>
            <a:ext cx="3733920" cy="2484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uke Suh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5308560" y="5811840"/>
            <a:ext cx="3746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Lucida Grande"/>
                <a:hlinkClick r:id="rId4"/>
              </a:rPr>
              <a:t>www.ftp.irtc.or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410082"/>
                </a:solidFill>
                <a:uFillTx/>
                <a:latin typeface="Lucida Grande"/>
              </a:rPr>
              <a:t>www.lancs.ac.uk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Grande"/>
              </a:rPr>
              <a:t>Peaceful Uses of Nuclear Technology</a:t>
            </a:r>
            <a:endParaRPr b="0" lang="en-US" sz="36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28600" y="1324080"/>
            <a:ext cx="434340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uclear Ener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: It’s “green energy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n: It produces nuclear was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Irradi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Pro: It allows food to stay fresh for a long tim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Con: There could be other side effec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500280" cy="2209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3"/>
          <a:stretch/>
        </p:blipFill>
        <p:spPr>
          <a:xfrm>
            <a:off x="5029200" y="388620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uke Suhr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The Decision to Drop the Bomb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00240" y="1082520"/>
            <a:ext cx="4343400" cy="275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at agencies participated in the decision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xecutive Branch (President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cientists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Department of Defense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2" marL="110484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Joint Chief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lvl="2" marL="110484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Meteorologist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ina Bu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3391200" cy="426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851040" y="1892160"/>
            <a:ext cx="3390840" cy="4089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7"/>
          <p:cNvSpPr/>
          <p:nvPr/>
        </p:nvSpPr>
        <p:spPr>
          <a:xfrm>
            <a:off x="4800600" y="3924360"/>
            <a:ext cx="4343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at factors contributed to the selection of Hiroshima and Nagasaki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avorable weather condi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Industrial targe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ack of prior bomb damag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52280" y="6070680"/>
            <a:ext cx="4788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http://www.trumanlibrary.org/whistlestop/study_collections/bomb/large/index.php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Gill Sans"/>
              </a:rPr>
              <a:t>http://www.gwu.edu/~nsarchiv/NSAEBB/NSAEBB162/index.htm</a:t>
            </a:r>
            <a:endParaRPr b="0" lang="en-US" sz="1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The Decision to Drop the Bomb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9320" y="1133280"/>
            <a:ext cx="4343400" cy="215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04920" indent="-30492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ere did the scientists want the bomb to be dropped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Japan (Oppenheimer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70488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Uninhabited island (Chicago Metallurgical Lab)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ina Bu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52280" y="3048120"/>
            <a:ext cx="4343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266760" indent="-26676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y an uninhabited island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6720" indent="-2858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ublic opin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6720" indent="-2858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event nuclear arms rac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6720" indent="-285840">
              <a:lnSpc>
                <a:spcPct val="90000"/>
              </a:lnSpc>
              <a:spcBef>
                <a:spcPts val="1151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Obtain multinational support before use against populated area Where did the scientists want the bomb to be dropped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66760" indent="-26676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4749840" y="1128600"/>
            <a:ext cx="4241880" cy="53737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43920" y="6527880"/>
            <a:ext cx="465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www.gwu.edu/~nsarchiv/NSAEBB/NSAEBB162/nagasaki-2.jp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10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Lucida Grande"/>
              </a:rPr>
              <a:t>The Decision to Drop the Bomb</a:t>
            </a:r>
            <a:endParaRPr b="0" lang="en-US" sz="40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800240" y="1082520"/>
            <a:ext cx="4343400" cy="5461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8000"/>
          </a:bodyPr>
          <a:p>
            <a:pPr marL="298800" indent="-298800">
              <a:lnSpc>
                <a:spcPct val="90000"/>
              </a:lnSpc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What factors influenced the decision to drop the bomb?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evious casualties during the war in the Pacific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Projected casualties for a land invasion of Japan and Korea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desperate measures taken by the Japanese military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he availability of a new weapo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Lack of desire to wait an additional three months to begin the land invasion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1" marL="690480" indent="-280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To justify the expense of development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8217000" y="6527880"/>
            <a:ext cx="939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ina Bua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203040" y="3021120"/>
            <a:ext cx="4267440" cy="3444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3"/>
          <a:stretch/>
        </p:blipFill>
        <p:spPr>
          <a:xfrm>
            <a:off x="203040" y="1130400"/>
            <a:ext cx="4526280" cy="1879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-296280" y="6527880"/>
            <a:ext cx="52581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http://archives.gov/historical-docs/todays-doc/index.html?dod-date=511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ile</dc:creator>
  <dc:description/>
  <cp:keywords/>
  <dc:language>en-US</dc:language>
  <cp:lastModifiedBy>profile</cp:lastModifiedBy>
  <dcterms:modified xsi:type="dcterms:W3CDTF">2010-08-17T20:35:57Z</dcterms:modified>
  <cp:revision>4</cp:revision>
  <dc:subject/>
  <dc:title>Hiroshima</dc:title>
</cp:coreProperties>
</file>